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824-B7EA-44B3-A88F-705AD4E8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F71-CB83-4C26-8722-8992E73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48F-6D0D-4F83-B204-98AC8335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936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224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648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936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224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E85-436B-46E6-B4AB-B2BF02A0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060-47C1-4BDE-B731-CDC83ED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9E8C-73C2-4232-9D8A-0DE3A33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460-CB82-4FE4-B62A-7A864FE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08B2-A856-44BA-89C1-09060C1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8566-7ABD-4614-B9F3-74CCF4FC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D76A-E4D7-4E1E-8A36-832F0C5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F011-EF66-403A-8FCF-FE40543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544-08CB-471E-AC3F-1C4D2B2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87C-21F3-48C0-9890-C7C4F89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20F-FAA9-480D-8F8B-F735600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E1E-3407-4164-BAA4-FB0C112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5B9E-3F5D-4F6B-9727-E28BE378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7936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224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648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7936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224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D9A-B361-488B-B6DF-E6E381AD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69F-242D-46D5-A791-A5D5CDD7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532-401D-42D4-A4BD-1329F838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F3F-2FCB-46D3-B115-EE0EE03A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110-527A-479A-BFC1-9E2F1110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310-4C3C-471F-9938-8CD4654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AFC-4786-4878-8006-03A1159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AC7-A607-400A-8466-31FD3C0F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256-E50C-4104-8847-934AF6D700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0138-763C-442F-9389-41474536DF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 Pastori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 Morisc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3628800"/>
            <a:ext cx="5410080" cy="17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:   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ros Mitr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vier Past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lly Pérez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880" y="7162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Al Trasladarse a España se puede decir que  Feliciano da Silva, Alonso Núñez de Reinoso, Villegas, Torquemada, Juan de la Encina y Garcilaso de la Vega se convierten en los precursores de la Novela Pastor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8288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Precursores de la Nove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1120" y="7391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protagonistas de esta novela se alejan del vulgar pastor teatral y se convierten en pastores cultos, refinados y melancólicos. EL amor es el principal motor de estos relatos, es puro, honesto, casto y virtuoso, con raíces puramente espiritua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2803320" y="1600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pple Casual"/>
              </a:rPr>
              <a:t>El Pas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l Amor Pastori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Pastores en estas obras se centran en el Amor, pero a diferencia que en la época medieval, sin tormento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También se dirige el Amor hacia el paisajismo, la lírica, la musicalidad y el optimism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33920" y="8686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a Novela Morisc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un subgénero de la novela propiamente de España, ya que se da por la larga duración de la guerra civil de granada. Tiempo en el cual las relaciones entre moros y cristianos eran buena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Característica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648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tas novelas en parte son históricas por su ambiente y alusiones, también por muchos de sus personajes, la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época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y los lugares de la acció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Te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l tema principal es el amor, muy relacionado a la novel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sentimental, aunque esta 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as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humana, y el papel de l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mujer m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as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activo, la novela 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trágica sino optimista y d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final feliz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07080" y="2976480"/>
            <a:ext cx="2536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enguaj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Se utiliza un lenguaje clasicista, sin excesos retóricos ni latinismo, aparecen frecuentemente arabismos. Abundan las descripciones de juegos, fiestas, torneos, jardines y vestiduras; brillantes y coloridas, minuciosas y detallista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a Novela de Caballerí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 Novela Morisca es la superación d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libros de caballería y d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s novelas sentimentales,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mantiene un equilibrio entr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s armas y el am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79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Tiene dos etap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1.- Primer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: temática fronteriza anterior a 148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2.- Segund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: temática centrada en l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 de los Reyes Católicos y en su conquista de Granada, aunque puede ampliarse a los conflictos morisc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052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tapas Morisca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218960"/>
            <a:ext cx="56386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ovela Pastoril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769644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ヒラギノ角ゴ ProN W3"/>
              </a:rPr>
              <a:t>_x0003__x0016__x0003__x0018_</a:t>
            </a:r>
            <a:r>
              <a:rPr b="0" lang="en-US" sz="3600" spc="-1" strike="noStrike">
                <a:solidFill>
                  <a:srgbClr val="ffffff"/>
                </a:solidFill>
                <a:latin typeface="Apple Casual"/>
              </a:rPr>
              <a:t>Subgénero de la novela, históricamente se data en la época renacentista su primera representación fue la Arcadia del italiano Jacopo Sannazaro.</a:t>
            </a:r>
            <a:r>
              <a:rPr b="0" lang="en-US" sz="2800" spc="-1" strike="noStrike">
                <a:solidFill>
                  <a:srgbClr val="ffffff"/>
                </a:solidFill>
                <a:latin typeface="ヒラギノ角ゴ ProN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2952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so de la Novel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Novela Morisca 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poca duración, 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ada entremedio 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ras novelas ma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tensas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tro de una Histor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1230480"/>
            <a:ext cx="38098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s Moriscas Ejempla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Historia del Abencerraj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y de la hermosa Jarifa;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La Dian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Guerras civiles de Granada,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Ozmin Y Dabaja; </a:t>
            </a: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Guzmán</a:t>
            </a:r>
            <a:r>
              <a:rPr b="0" i="1" lang="en-US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de Alfarach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Historia del cautivo,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Don Quijot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97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uchas Gracias Por su Atención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En la Edad Media, Giovanni Boccaccio compuso algunas prosas narrativas de tema pastoril y eglógico          como el Ninfale d'Ameto            y el Ninfale Fiesolan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pple Casual"/>
              </a:rPr>
              <a:t>Orígenes De la Novela Pasto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41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</a:rPr>
              <a:t>Características de la Novela Pastori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a novela pastoril refleja la visión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idealista y poco realista del Renacimiento.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a temática es siempre amorosa y ofrece una visión de la naturalez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morosa y lenta de acción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o que importa fundamentalmente es el análisis de los sentimientos y pasiones de los personajes y la descripción del paisaje natura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specialmente Pastori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 Novela Consiste de usualmente dos pastores cuidando sus ovejas en el campo, y para pasar el rato cuentan de sus encuent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Con el amor y de                             otros temas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pastori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95680" y="4191120"/>
            <a:ext cx="4445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906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os diez libros de Fortuna de Amo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r de Antonio de Lofraso (1573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El pastor de Fílid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(1582) de Luís Gálvez de Montalv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a Galat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(1585) de Miguel de Cervan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Desengaño de celo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 (1586) de Bartolomé López de Enciso,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Ninfas y pastores de Henar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 (1587) de Bernardo González de Bobadill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El Pastor de Iberi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de Bernardo de la Vega (1591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a Arcadi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(1598) de Félix Lope de Veg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00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jemplos de Novelas Pastor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7238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se establece una relación entre la pastoril italiana y la española, basada en la influencia de "La Arcadia" de Sannazaro, de los "Ifilios"d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T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cri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to y las Églogas d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Virgilio, que tienen siemp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presente la concepció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clásica de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bucolism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523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halkboard"/>
              </a:rPr>
              <a:t>Novelas Pastoriles: De Italia a Espa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34320" y="3657600"/>
            <a:ext cx="2006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0:09:38Z</dcterms:created>
  <dc:creator>Alexandros Mitri</dc:creator>
  <dc:description/>
  <dc:language>en-US</dc:language>
  <cp:lastModifiedBy>Alexandros Mitri</cp:lastModifiedBy>
  <dcterms:modified xsi:type="dcterms:W3CDTF">2008-10-07T13:58:03Z</dcterms:modified>
  <cp:revision>3</cp:revision>
  <dc:subject/>
  <dc:title> Pastoril y  Novela Morisca</dc:title>
</cp:coreProperties>
</file>